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D7FA-DC78-484C-AC16-F2FF34CD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 out percentiles of th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del explicitly denies causal status to personal attributes, such as race, age, nationality, etc. it incourages the investigation of processes such as descrimin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-read this in shrout and bol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9B5-3C2F-4A16-B4A2-8076E5D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A50-BE56-4F77-9B62-02CF878F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AD8-CE56-4FD3-8A3D-D7885AEC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81E-300B-4F1B-AE07-5451E157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E07-AA59-4665-8C22-D74620DC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38A-06AB-47CD-8F36-A54EF058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B72-CCB1-4C2C-9212-3578879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2A9-8A0F-471D-A563-61221F16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9C5-4265-4DED-900A-67BD4C8C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7DF-9D43-4C73-87B2-58AB809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ADF-41B7-4247-954E-C674FE5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898-3462-42E4-B3AE-AFC95FE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0CB1-18D7-414C-A45F-65AE7668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Mediation Using Standard Regression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3520" y="1549440"/>
          <a:ext cx="7696080" cy="5308560"/>
        </p:xfrm>
        <a:graphic>
          <a:graphicData uri="http://schemas.openxmlformats.org/drawingml/2006/table">
            <a:tbl>
              <a:tblPr/>
              <a:tblGrid>
                <a:gridCol w="1923840"/>
                <a:gridCol w="1886040"/>
                <a:gridCol w="1962000"/>
                <a:gridCol w="192420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ndard err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X to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0(.8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X to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55(.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 to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0(1.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X to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2(.9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85680" y="1973160"/>
            <a:ext cx="7172640" cy="378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9880" y="5486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-.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diation has occurred, we exp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irec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x b) effect to be non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bel test involves computing the r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ts esimated standar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or this ratio is computed in reference to the standard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statistic = -2.12, p = .0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is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ly normal in larg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 of this effect is subject to estimatio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748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99172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5200" y="34290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1219320"/>
            <a:ext cx="75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004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8120" y="4572000"/>
            <a:ext cx="3808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5627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highly skewed which lowers the power of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914400"/>
            <a:ext cx="2971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lues of “ab” are more variable than small values (i.e.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09520" y="220968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33720" y="1752480"/>
            <a:ext cx="16761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52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l Test has Low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parametric re-sampling procedure that does not impose the assumption of normality of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intensive method involves repeatedly sampling from the data set and estimating the indirect effect in each re-sampled data set (thousands of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approximation of the sampling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uild and used to construct confidence intervals for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thod: Bootstr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Uses the original data set as the “population,” creates a sample of N persons by randomly sampling observations with replacement from th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For each bootstrap s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s Steps 1 and 2 a bunch of times (e.g.,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distribution of th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way of testing significance of indirec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in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possible to argue on theoretical ground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is prior to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s prior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Z on Y is completely accounted for by the indirect path through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total 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h from X to Y is fixed to zero, then the model is no longer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of fit becomes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mediation requir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on path C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to have the direct path between X and Y (i.e., path C) to test for me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y says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say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out and Bolger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pends on how far apart in time X and Y were col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Kinnon (20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d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wo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s throu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 be confused with mo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wo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s as a function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of 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argued that there cannot be “causation without mani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ough stand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lawed Example of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might try to argue that family disorganization on low self-esteem is totally mediated through placement in foster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n and Kenny(1986) criteria might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significantly related 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significantly related 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 is regressed on Z and X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ignificant bu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signif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significance is a function of sampl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uggests that children not assigned to foster care who live in a disorganized family may suffer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ood Example of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is an experimentally manipulated variable such as a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 measured process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s an outcome logically subsequent 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hen and Bargh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liminal primes given to a ss (the observer) could affect his or her verbal behavior toward another participant (the target), which would in turn evoke increased hostility in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he observer’s hostile behavior would mediate the relationship between the prime and the target’s hosti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Mediato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e have several mediators in mind to account for the relationship between X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Holbert et al. (2003) showed that viewing traditional dramas, progressive dramas, and situation comedies mediated the influence of political ideology on support for women’s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Mediato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ultiple mediators, 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 indirect eff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X on Y through mediator 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indirect effec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sum of the specific indirect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 of simultaneously estimating multiple indirect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etermine to what extend specif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mediate the X to Y effect, conditional on the presence of other mediators in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likelihood of parameter bias due to omitt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 to examine the relative magnitudes of indirect effects to pit competing theories against each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examples of the benefits of using bootstrapping to estimate multiple indirect effects over oth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gs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 and MacKinnon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ginn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267080"/>
            <a:ext cx="4038840" cy="304920"/>
          </a:xfrm>
          <a:prstGeom prst="rightArrow">
            <a:avLst>
              <a:gd name="adj1" fmla="val 50000"/>
              <a:gd name="adj2" fmla="val 331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di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267080"/>
            <a:ext cx="4038840" cy="304920"/>
          </a:xfrm>
          <a:prstGeom prst="rightArrow">
            <a:avLst>
              <a:gd name="adj1" fmla="val 50000"/>
              <a:gd name="adj2" fmla="val 331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1337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9428600">
            <a:off x="2255400" y="3260160"/>
            <a:ext cx="2362320" cy="380880"/>
          </a:xfrm>
          <a:prstGeom prst="rightArrow">
            <a:avLst>
              <a:gd name="adj1" fmla="val 50000"/>
              <a:gd name="adj2" fmla="val 1550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2311200">
            <a:off x="5321160" y="3244320"/>
            <a:ext cx="2286000" cy="30528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19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25780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 path from predictor to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path from mediator to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’ = direct effect (path from predictor to outcome controlling for medi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n and Kenny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C, or X t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a, or X to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b, or M to Y (with X in th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c’, or X to Y (with M in th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teps 3 and 4 are done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of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+ indirec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’ + a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Each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2 and 3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to M must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to Y (with X in model) must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1 and 4 not so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isagreement about 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Perceived control over pres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eaning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cut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0240" y="1782720"/>
            <a:ext cx="7823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sa west</cp:lastModifiedBy>
  <dcterms:modified xsi:type="dcterms:W3CDTF">2012-01-06T16:23:4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